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FF1-BE5F-4D23-9B27-681E41BE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BFC-0817-43B1-9E8E-9DC70882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827-FB21-4A49-B384-7C6E5ECF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C96-FFC0-4E49-94DB-22B89AE9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8B9B8-30DB-494D-8FFE-5D026AB8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10E09-98E8-495A-9DBA-B8E47EF3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09E6B-221F-4F9A-9DFB-707DCBD4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79E56-312B-42D7-8B3E-BBC6E219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D626A-3A22-429A-9C95-BD3CE7D4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CBCB5-E58B-4167-B7B6-E392C142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F824A-DA3E-4190-A4D6-EB541B33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D07-3941-4951-B3BF-6354AC1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26B64-78E5-42AB-A7E1-0EA6866E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2FEA1-00E2-40D2-AA07-A8244566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08A3F-E0D9-4B7F-B5EE-E770E690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F2A94-3D83-418D-B8C3-EF97E9AA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2B91A-E3FD-4FCB-87E5-B9978695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00D-F351-4995-90EB-10F62B17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28C-C5BA-4BA1-A531-A3156B12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945-2489-4F01-AB1E-2FB81CAA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632-DB78-496D-8750-66E5F0EF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BC3-4DA8-4A9D-87A3-E588921E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B28-D47A-499C-9D2B-76E80D7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182-7DED-4062-A45C-B2239210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8C2F-4FD5-4923-9D04-3DFE839FD7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7C92-CAFB-41AD-B744-DEEED46E3F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3e3ff"/>
                </a:solidFill>
                <a:latin typeface="Arial"/>
              </a:rPr>
              <a:t>ПРОЦЕНА ФУНКЦИОНАЛНИХ И МОТОРИЧКИХ СПОСОБНОСТИ КОД БОЛЕСНИКА СА ЦЕРВИКАЛНИМ И ЛУМБАЛНИМ СИНДРОМОМ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e3e3ff"/>
                </a:solidFill>
                <a:latin typeface="Arial"/>
              </a:rPr>
              <a:t>Вертебробазиларни синдр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рактерише се главобољом праћеном мучнином и повраћањем, вртоглавицом, сметњама са слухом, видом и гутањем. Могу да буду присутни болови у пределу ср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таје због иритације задњег вратног симпатикуса чија влакна омотавају кичмене артериј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ритацију симпатикуса изазивају коштани трнови (остеофити) на пршљеновима тј. спондилоза и ункантро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3e3ff"/>
                </a:solidFill>
                <a:latin typeface="Arial"/>
              </a:rPr>
              <a:t>ФИЗИОТЕРАПЕУТСКА ПРОЦЕНА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нспе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лп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а тон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а мишићне сна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а обима покр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а троф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кционална процена кроз специфичне тесто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Фукционална процена кроз специфичне тестов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ест цервикалног фле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урлингов т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ест цервикалне ди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Шарп- Пурсеров т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лумп т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e3e3ff"/>
                </a:solidFill>
                <a:latin typeface="Arial"/>
              </a:rPr>
              <a:t>Тест цервикалног флеша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води се тако што пацијент из усправног става окретнут леђима зиду покушава окципталном кости да додирне зи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итиван је ако не успе да додирне зид, негативан ако усп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итиван је код анкилозирајућег сподилитиса, кифо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457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пурлингов тес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 изводи тако што пацијент седи, врат се налази у бочној флексији, терапеут стави руке на врх гла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тисак на врат са савијањем главе на болну страну се провоцирају и појачавају тего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к је позитиван код цервикалне радикулопатиј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матра се врло специфичним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e3e3ff"/>
                </a:solidFill>
                <a:latin typeface="Arial"/>
              </a:rPr>
              <a:t>Тест цервикалне дистракц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2949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води се у супинираном положају болесника. Испитивач стави обе своје руке иза главе испитаника, и главу лагано потискује према тел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ст је позитиван ако се потискивањем главе према телу симптоми интензивирају, а тракцијо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осно извлачењем смањуј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e3e3ff"/>
                </a:solidFill>
                <a:latin typeface="Arial"/>
              </a:rPr>
              <a:t>Шарп-Пурсеров тес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чан је за испитивање неставилности вратног дела кичме (горњег дел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чан је атланто-аксијалну нестабилност (Р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e3e3ff"/>
                </a:solidFill>
                <a:latin typeface="Arial"/>
              </a:rPr>
              <a:t>Шарп-Пурсеров тес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ацијент седи. Испитивач поставља длан једне руке на чело пацијента, а кажипрст или палац друге руке на врх спиналног процеса осе (C2). Од пацијента се тражи да полако савија главу и изводи благи цервикални чвор, у исто време испитивач притисне постериорно на чело пацијен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лизно кретање главе у односу на осу указује на атлантоаксијалну нестабилнос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зитиван резултат може бити праћен и смањењем симпт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e3e3ff"/>
                </a:solidFill>
                <a:latin typeface="Arial"/>
              </a:rPr>
              <a:t>Слумп тес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ст се изводи тако да испитаник седи у погрбљеном положају с рукама иза леђа. Испитивач позиционира испитаника у положај флектиране цервикалног дела кич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итивач ставља руке на теме испитаника, који потом изводи екстензију к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а и дорзалну флексију стопала. На крају се испитаник враћа у неутралан почетни положај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ст је позитиван ако се симптоми интензивирају у флектираном положају, а смањују се у неутралном положају (вратни дискус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3e3ff"/>
                </a:solidFill>
                <a:latin typeface="Arial"/>
              </a:rPr>
              <a:t>Индекс онеспособљености због болова у врату </a:t>
            </a:r>
            <a:r>
              <a:rPr b="1" lang="sr-Latn-CS" sz="2800" spc="-1" strike="noStrike">
                <a:solidFill>
                  <a:srgbClr val="e3e3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eck pain and disability scale questionnair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стоји се од десет питања које пацијент сам попуњава, а односе се на степен онеспособљености код особа са болом у врат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итник одређује просечан интензитет бола и појаву главобоље повезане са болом (2 питања), утицај бола на свакодневне активности (лична нега, подизање предмета, читање, активности у вези са радом, вожња, спавање и ниво учешћа пацијента у рекреативним активностима- 7 питања) и концентрацију (1 питањ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124080" y="3733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ЦЕРВИКАЛНИ СИНДР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User\Desktop\преузимање.jpg"/>
          <p:cNvPicPr/>
          <p:nvPr/>
        </p:nvPicPr>
        <p:blipFill>
          <a:blip r:embed="rId1"/>
          <a:stretch/>
        </p:blipFill>
        <p:spPr>
          <a:xfrm>
            <a:off x="304920" y="380880"/>
            <a:ext cx="376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3e3ff"/>
                </a:solidFill>
                <a:latin typeface="Arial"/>
              </a:rPr>
              <a:t>Индекс онеспособљености због болова у врату </a:t>
            </a:r>
            <a:r>
              <a:rPr b="1" lang="sr-Latn-CS" sz="2800" spc="-1" strike="noStrike">
                <a:solidFill>
                  <a:srgbClr val="e3e3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eck pain and disability scale questionnair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ако питање прати шест различитих тврдњи, оцењених од 0 до 5, где је нижи скор повезан са бољом функцијом, док виши скор представља већи степен онеспособље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итаник се опредељује за једну тврдњу која најближе описује његово стањ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3e3ff"/>
                </a:solidFill>
                <a:latin typeface="Arial"/>
              </a:rPr>
              <a:t>Индекс онеспособљености због болова у врату </a:t>
            </a:r>
            <a:r>
              <a:rPr b="1" lang="sr-Latn-CS" sz="2800" spc="-1" strike="noStrike">
                <a:solidFill>
                  <a:srgbClr val="e3e3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eck pain and disability scale questionnair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ој бодова из сваког питања се сабира у укупан скор, који се подели бројем 50 (максималан број бодова у укупном скору) и помножи бројем 100 како би се доби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епен онеспособљености у проценти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пен онеспособљености испитаника се на основу добијеног процента сврстава у једну од пет категориј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з онеспособљености  (0%-8%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лага онеспособљеност  (10%-28%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ерена онеспособљеност  (30%-48%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шка онеспособљеност  (50%-68%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тпуна онеспособљеност  (више од 70%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3e3ff"/>
                </a:solidFill>
                <a:latin typeface="Arial"/>
              </a:rPr>
              <a:t>Индекс онеспособљености због болова у врату </a:t>
            </a:r>
            <a:r>
              <a:rPr b="1" lang="sr-Latn-CS" sz="2800" spc="-1" strike="noStrike">
                <a:solidFill>
                  <a:srgbClr val="e3e3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eck pain and disability scale questionnair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28600" y="1752480"/>
            <a:ext cx="434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азано је да Индекс онеспособљености због болова у врату представља поуздано мерило исхода, а упитник је валидиран међу различитим популацијама пацијен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71600" y="40384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ЛУМБАЛНИ СИНДР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C:\Users\User\Desktop\преузимање (1).jpg"/>
          <p:cNvPicPr/>
          <p:nvPr/>
        </p:nvPicPr>
        <p:blipFill>
          <a:blip r:embed="rId1"/>
          <a:stretch/>
        </p:blipFill>
        <p:spPr>
          <a:xfrm>
            <a:off x="228600" y="304920"/>
            <a:ext cx="3662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51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умбални део кичменог стуба чине пет пршљенова (L1-L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ла лумбалних пршљенова су значајно већих димензија од тела цервикалн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шљен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3e3ff"/>
                </a:solidFill>
                <a:latin typeface="Arial"/>
              </a:rPr>
              <a:t>Лумбални синдр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мбални синдром обухв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 групу различитих обољења и поремеђаја чији је заједнички симптом бол у лумбалном или лумбосакралном делу са или без ирадијације дуж но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3e3ff"/>
                </a:solidFill>
                <a:latin typeface="Arial"/>
              </a:rPr>
              <a:t>ЕТ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генеративна обо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реде кичменог ст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паљенске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фекцијске болести  (специфична и неспецифич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аболичка обо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генитални поремећа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тички поремећа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мори кичменог стуба (бенигни,малигн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304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ификација неспецифичног лумбалног синдрома по дужини трајања симптом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кутни лумбални бол (&lt; 6 недеља) 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бакутни лубални бол (6-12 недеља) 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онични лумбални бол (&gt;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недељ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3e3ff"/>
                </a:solidFill>
                <a:latin typeface="Arial"/>
              </a:rPr>
              <a:t>КЛИНИЧКИ ЕНТИТЕ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специфични лумбални бо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више од 95%) - бол у крстима од доњих ребара до глутеалне линије 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ндром ишија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спод 5%) - бол се шири најчешће дуж једне ноге, што указује на иритацију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ресију нервних коренова 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збиљна спинална патологиј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мање од 2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3e3ff"/>
                </a:solidFill>
                <a:latin typeface="Arial"/>
              </a:rPr>
              <a:t>ЛУМБАГ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и симптом је бол у лумбално делу кичме, углавном почиње нагло и настаје услед протузије нуклеус пулпосуса,сублуксације ив зглоб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е да има и постепен почетак (субакутни и хронични лумбаг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Клиничком сликом доминира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бол, спазам ПВМ и ограничена покретљивост лумбалне кичм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e3e3ff"/>
                </a:solidFill>
                <a:latin typeface="Arial"/>
              </a:rPr>
              <a:t>ДЕФИНИЦ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рвикални синдром представља скуп симптома и знакова који настају услед иритације или компресије спиналних неравних коренова, крвних судова и симпатикуса доводећи до сензитивних, моторних, васкуларних и вегетативнх поремећа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3e3ff"/>
                </a:solidFill>
                <a:latin typeface="Arial"/>
              </a:rPr>
              <a:t>Синдром ишија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се манифествује болом који шири најчешће дуж једне ноге, а главни узрок је компресија нерва која је најчешће изазвана хернијацијом интерветребралног диску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3e3ff"/>
                </a:solidFill>
                <a:latin typeface="Arial"/>
              </a:rPr>
              <a:t>Спинална пат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сутна у мање од 2% случаје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овој групи се налаз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индром кауде еквине, са последичним поремећајима функције сфинктера и пражњења мокраћне бешике и црева, уз перинеалну анестезију и парапарезу оба доња екстремитета, где је потребно обавити хитну дијагностику и упутити пацијента на оперативно лечењ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ОСВЕСТРИ УПИТНИК ЗА ПРОЦЕНУ БОЛА И НЕСПОСОБНОСТИ ЗБОГ БОЛА У КРСТИМ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итник 1980. ревидиран је 1986. године са циљем процене до које мере је функционални ниво болесника ограничен болом у леђима и ноз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мењен је за клиничку употребу, а попуњава га болесник. Освестри упитник за процену бола и неспособности због бола у крстима, укључује 10 подскала од по 6 питања и одгово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ОСВЕСТРИ УПИТНИК ЗА ПРОЦЕНУ БОЛА И НЕСПОСОБНОСТИ ЗБОГ БОЛА У КРСТИМ</a:t>
            </a:r>
            <a:r>
              <a:rPr b="0" lang="sr-RS" sz="2800" spc="-1" strike="noStrike">
                <a:solidFill>
                  <a:srgbClr val="e3e3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ва област оцењује интензитет бола, а осталих девет покривају онеспособљавајући ефекат бола на типичне активност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старање о самом себ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дизање тере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ходањ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седењ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стајањ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спавањ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сексуални живо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социјални живо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путовањ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ОСВЕСТРИ УПИТНИК ЗА ПРОЦЕНУ БОЛА И НЕСПОСОБНОСТИ ЗБОГ БОЛА У КРСТИМ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ник означава ону изјаву у сваком делу упитника, која најтачније описује ефекат његовог бола. Уколико су две ставке означене резултат је адекватниј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ака подскала се оцењује 0-5, где више вредности представљају већу инвалиднос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ма 10 резултата изражена је као проценат максималног ско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-20 минимална инвалиднос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-40 умерена инвалиднос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-60 тешка инвалиднос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 60 представља тешки инвалидитет због утицаја бола у већини животних сф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ОСВЕСТРИ УПИТНИК ЗА ПРОЦЕНУ БОЛА И НЕСПОСОБНОСТИ ЗБОГ БОЛА У КРСТИМ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ај упитник врши процену инвалидности или хендикепа насталог као последица бола, пре него погоршање стања тј. квалитета живота болесника насталог услед бо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6000" spc="-1" strike="noStrike">
                <a:solidFill>
                  <a:srgbClr val="ffff00"/>
                </a:solidFill>
                <a:latin typeface="Arial"/>
              </a:rPr>
              <a:t>ОСВЕСТРИ ИНДЕКС НЕСПОСОБНОСТИ</a:t>
            </a:r>
            <a:br>
              <a:rPr sz="6000"/>
            </a:br>
            <a:br>
              <a:rPr sz="6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Oswestry Low Back Pain Disability Questionnair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e3e3ff"/>
                </a:solidFill>
                <a:latin typeface="Arial"/>
              </a:rPr>
              <a:t>Третира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10 </a:t>
            </a:r>
            <a:r>
              <a:rPr b="0" lang="sr-RS" sz="4400" spc="-1" strike="noStrike">
                <a:solidFill>
                  <a:srgbClr val="e3e3ff"/>
                </a:solidFill>
                <a:latin typeface="Arial"/>
              </a:rPr>
              <a:t>секц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тезите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ичн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ри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из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ет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дењ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(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обн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олиц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ло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клинациј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јањ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јањ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етањ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а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ксу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а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ах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к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узокуј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цијалн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72480" indent="-393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то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1: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Интезите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бол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Ја могу толеристаи бол без пригушивања б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Пригушење бола ми је значајна олакшица у регулацији бола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Пригушивач бола ми је делимична олакшица (3 поена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Пригушење бола ми је минимална олакшица у регулацији бола  (4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Пригушење бола нема ефеката  (5 пое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2: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Личн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бриг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акодневне активности могу да обавим без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ова. 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рмално обављањам свакодневне потребе, али уз болове  (1 пое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оред брижљивог и пажљивог обављања самозбрињавања имам јак бол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требам помоћ код обављања свакодневних потреба  (3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требам помођ у скоро свим дневним потребама (4 б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се не могу сам умити нити стајати без мидера нити сам оти)и у кревет  (5 пое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3e3ff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уго седење, рад у неправилним присилним положајима тела када је глава нагнута према напре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генеративне промене на интервертебралним, костовертебралним, унковертебралним зглобовима и интервертебралним дискуси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ојни фактори: животна доб (најчешће између 35. и 45. године), гојазност, неправилна исхрана, пушење, остеопороза, неправилно држање, повреде, стр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ђене малформације вратне кич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нигни и малигни тум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паљенске реуматске бол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3: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Подизањ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могу подићи терет уз подношљив бол  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могу подићи терет, али са екстра јаким болом  (1 пое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упозорава да не могу подићи већ и терет са пода, али када нађем погодну позицију могу задатак обавити до висине стола 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е упозорава да не могу подићи већи терет са пода, али мањи терет при погодном положају могу да подигнем  (3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могу подићи само веома лак терет  (4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не могу подићи ни носити никакав терет  (5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4: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Шетњ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шетњи немам болова без обзира на дистанцу шетања  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е упозорава код шетње дуже од једне миље (1 пое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е упозорава код шетње дуже од пола миље    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е упозорава код шетње дуже од четвртину миље  (3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могу шетати само када користим штап или штаке  (4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јвећи део времена проводим у кревету, а до тоалета могу да одем пузајући (5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5: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ед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("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Подобн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толиц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наслон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реклинациј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16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могу да седим на столици колико хоћу  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могу да седим у мојој столици која је адаптирана, колико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ћу  (1 пое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се јавља код седења до једног сата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се јавља код седења до 0.5 сата  (3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се јавља код седења до 10 минута (4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не дозвољава седење  (5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6: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таја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таја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шета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7521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могу стајати дуго без бола 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 се не повећава са времено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пое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е упозорава код стајања дуже од једног сата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е упозорава код стајања дуже од тридесет минута  (3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е упозорава код стајања дуже од десет минута (4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се јавља одмах код стајања  (5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7: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Спавањ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оред болова могу да спавам 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могу спавати само када узимам таблете  (1 пое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оред  узимања таблета ја спавам најдуже 6 сати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оред  узимања таблета ја спавам најдуже 4 сати (3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оред  узимања таблета ја спавам најдуже 2 сати (4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и не дозвољава спавање  (5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8: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ексуалн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живо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трах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ек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проузокуј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бо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ј сексулани живот је нормалан и не проузокује бол 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ј сексуални живот је нормалан и понекад узрокује - појача бол  (1 пое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ј сексуални живот је скоро нормалан, али узрокује - појачава болове 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ј сексуални живот је значајно редукован због бола (3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ј сексуални живот је скоро и да не постоји због болова  (4 пое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д секса бол је веома јак и онемогућава сексуални живот  (5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9: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Социј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живо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ј социјални живот је нормалан, без болова          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ј социјални живот је уобичајен, али повећава  степен болова  (1 пое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нема сигнификантни ефекат на мој социјални живот, али лимитира одређене активности као што је плес 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значајно омета мој социјални живот и онемугућава ми социјалне контакте  (3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омета мој социјални живот и у кућним условима (4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немам социјални живот због болова (5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Сек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10: </a:t>
            </a:r>
            <a:r>
              <a:rPr b="1" lang="sr-RS" sz="4000" spc="-1" strike="noStrike">
                <a:solidFill>
                  <a:srgbClr val="ffffff"/>
                </a:solidFill>
                <a:latin typeface="Arial"/>
              </a:rPr>
              <a:t>Путовањ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д путовања,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немам болове  (0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а могу путовати свуда, али уз минималне болове       (1 пое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и се јавља код путовања дужег од два сата         (2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и се јавља код путовања до једног сата  (3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и се јавља код путовања до 30 минута  (4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 ме упозорава да једино уз савет лекара могу путовати   (5 поен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3e3ff"/>
                </a:solidFill>
                <a:latin typeface="Arial"/>
              </a:rPr>
              <a:t>Кључ</a:t>
            </a:r>
            <a:r>
              <a:rPr b="1" lang="sr-Latn-C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sr-RS" sz="4400" spc="-1" strike="noStrike">
                <a:solidFill>
                  <a:srgbClr val="e3e3ff"/>
                </a:solidFill>
                <a:latin typeface="Arial"/>
              </a:rPr>
              <a:t>скорирања</a:t>
            </a:r>
            <a:r>
              <a:rPr b="1" lang="sr-Latn-C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0%-20% 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минимална неспособнос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Пацијент може највећи део активности дневног живота да сам оба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21%-40% 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умерена неспособност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цијент осећа бол и има тешкоће код седења, подизања терета и стајањ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41%-60% 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значајна неспособност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ол је стално присутан и омета свакодневни живо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61%-80% 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инвалидност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ол у ледима омета све активности дневног живота и неопходна је интервенција (оперативно лечењ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81%-100% 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пацијенти везани за крев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Квебекова скала онеспособљености код лумбалног синдром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Quebec Back Pain Disability Scale- QUE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зајниран за процену ниво функционалне инвалидности код особа са боловима у леђи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ст је поуздан и валидан за праћење напретка пацијената који учествују у различитим видовима лечења или програмима рехабилит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ај упитник се односи на начин на који бол у леђима утиче на свакодневни жив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сваку активност коју испитујемо постоји скала од 0 до 5. Одабере се  једна опција за сваку активност и заокружи се одговарајући број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3e3ff"/>
                </a:solidFill>
                <a:latin typeface="Arial"/>
              </a:rPr>
              <a:t>КЛИНИЧКИ ЕНТИТЕТИ ЦЕРВИКАЛНОГ СИНДРОМА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окални цервикални сид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рвико-брахијални синд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рвико-цефал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рвико-медулар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тебро-базиларни синд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6858000" y="3505320"/>
            <a:ext cx="20574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Квебекова скала онеспособљености код лумбалног синдром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Quebec Back Pain Disability Scale- QUE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ључује двадесет различитих врста свакодневних активности које се оцењују према градацији од 0 (без потешкоћа) до 5 (потешкоће толико изражене да онемогућавају активност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упан скор се креће од 0 до 100, при чему виша вредност укупног скора указује на већи степен онеспособље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vebekove skale onesposobljenosti kod lumbalnog sindrom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The Quebec Back Pain Disability Scale- QUE)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1295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умачење резулт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мални број бодова је 20, а максимални резултат је 100. Веће оцене корелирају са већом инвалидношћ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е се израчунати и % максималне инвалидности = (скор) - 20) / 80 * 10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Роланд-Морисов упитник </a:t>
            </a:r>
            <a:br>
              <a:rPr sz="2800"/>
            </a:b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Roland Morris Disability Questionnaire (RMDQ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итник процењује онеспособљеност узроковану болом у  лумбалном делу кичме, а анализира се широки спектар актив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стоји се од питања које покривају различите активности свакодневног жив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аки се одговор бодује са 0 или 1, са тим да више бодова значи већи степен онеспособље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итник је кратак и може се провести телефонским пу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довање: сваки позитиван одговор се саб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мачење резултата: не постоје степени инвалидности, већ се током времена може пратити клиничко побољшањ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пример ако је при првом тестирању, на почетку лечења ре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тат је био 12, а на крају лечењаје био 2 (10 поена побољшања), постоји 83% побољшања (10/12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x10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09480" y="38088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Роланд-Морисов упит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Roland Morris Disability Questionnaire (RMD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ХВАЛА НА ПАЖЊ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3e3ff"/>
                </a:solidFill>
                <a:latin typeface="Arial"/>
              </a:rPr>
              <a:t>ЦЕРВИКАЛНИ СИНДР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сници осећају бол у средњем делу врата, раменима, лопатицама и предњем делу грудног кош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је постепено или нагло после незгодног покрета, промаје или излагања хладноћ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локалном налазу постоји палпаторна болна осетљивост, спазам ПВМ уз ограничену покретљивост вратне кич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3e3ff"/>
                </a:solidFill>
                <a:latin typeface="Arial"/>
              </a:rPr>
              <a:t>ЦЕРВИКО-ЦЕФАЛИЧНИ СИНД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ћен је потиљачном главобољом, која се шири, у горњи задњи део врата, рамена, према челу, очима и слепоочница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Јавља се, осим бола и шум у ушима или поремећај равнотеже, замагњен вид, диплопије, бол у пределу л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аје због иритације или притиска на нервне коренове C1-C3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3e3ff"/>
                </a:solidFill>
                <a:latin typeface="Arial"/>
              </a:rPr>
              <a:t>ЦЕРВИКО-БРАХИЈАЛНИ СИНД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таје због иритације нервих коренова  C4-C8, најчешће као последица дископатије, повреда или дегенеративних промена кичменог сту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инички се манифестује болом у врату, раменима и рукама. Такође имају трњење дуж ру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гобе се интензивирају ноћу. Снижен је осећај у рукама. Може да буде ослабњена снага мишића ру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3e3ff"/>
                </a:solidFill>
                <a:latin typeface="Arial"/>
              </a:rPr>
              <a:t>ЦЕРВИКО-МЕДУЛАРНИ СИНД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таје компресијом медуле спиналис или васкуларних елемената медуле патолошким процесима вратне кич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инички се карактерише: спастичном одузетости Де и поремећајем хода, флакцидном  одузетости Ге, поремећај микције и дефекациј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7:51:01Z</dcterms:created>
  <dc:creator>Veljkovic Miodrag</dc:creator>
  <dc:description/>
  <dc:language>en-US</dc:language>
  <cp:lastModifiedBy>Windows User</cp:lastModifiedBy>
  <dcterms:modified xsi:type="dcterms:W3CDTF">2020-02-12T10:25:23Z</dcterms:modified>
  <cp:revision>223</cp:revision>
  <dc:subject/>
  <dc:title>CERVIKALNI SINDROM</dc:title>
</cp:coreProperties>
</file>